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08F-D7DC-442C-80E8-C6754BF5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7915-0182-4271-9DDD-589B1D8C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1A34-79CA-4AD0-9137-B925C821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ADED-FBEB-4247-A631-B91C2893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CE96-0B3B-4C3A-8F64-F39138D6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841-5559-4CEB-BB7C-D9B708A5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24E-0F80-4F5E-9FAA-60C9415F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A155-FBA2-43BB-B466-8CD33BB5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B20-E7C7-4C06-B503-34469C99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DBE-D73C-43D8-98DD-DC5F0179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1F1-2D30-4975-B3CF-72A356D7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6AF5-3974-42E2-9A26-62FB32A4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0855-A903-47FC-93D1-3B35BE7C4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,M,I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ULIA SCOZZARI &amp; NORA FAULK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capital was Tenochtitlan , it was there because in many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ed many other tribes and forced them to give them money or tribute that caused a civil w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ivil war is people are fighting between two or more groups in the sam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other tribes as slaves and sacrif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ught down by smallpox carried by the Span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24480" y="609480"/>
            <a:ext cx="1452600" cy="966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1676520" cy="167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96080" y="5618160"/>
            <a:ext cx="144792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uch gold so they weren’t a target for the conquistadors plus they had a bigger city so it was harder to def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so were polytheis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s who could sometimes earn there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9880" y="4952880"/>
            <a:ext cx="2092320" cy="1648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theis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written language, but had spoken langu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sacrifice with animals , and on special occas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ild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cri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conquistador who explored and found the Azt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ztecs &amp; their leader Montezuma welcomed Cortez thinking he was Quetzalcoat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z took Montezuma hostage, &amp; he was killed in the fight that follow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z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explorer and conquist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ualpa, Incan emperor was kidnapped of held for a large amount of money/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emanded the room to be filled with gold and the emperor would be returned, the Incas used gold and silver as decorations, not mon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gave him the gold but Pizzaro did not free Athualpa and he eventually killed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7" dur="1" fill="hold"/>
                                  <p:tgtEl>
                                    <p:spTgt spid="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most of central and South America &amp; the population of the people in central and South America are Christian &amp; are not polythe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Aztec, Maya, and Inca culture and traditions have vanished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14600" y="18288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END!!!!!!!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49:32Z</dcterms:created>
  <dc:creator>jklib</dc:creator>
  <dc:description/>
  <dc:language>en-US</dc:language>
  <cp:lastModifiedBy>jklib</cp:lastModifiedBy>
  <dcterms:modified xsi:type="dcterms:W3CDTF">2011-11-28T16:14:47Z</dcterms:modified>
  <cp:revision>5</cp:revision>
  <dc:subject/>
  <dc:title>A,M,I project</dc:title>
</cp:coreProperties>
</file>